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D5A7-8D3B-4DEE-B486-EEB6727D3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DF08-AD7A-49AF-9689-4CFA356D38A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5A5F-79EB-4EF2-BFAB-7475A8D3771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FF0E-7AE7-459A-9166-80ABD1F479B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EBBA-0769-40B6-B607-33A0FC6D8FB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E7CF-806A-4AFD-AF58-C6F1B5F850B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4094-E14E-4967-BE23-9308BD6E586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F3F3-0F4B-44A8-AD36-DAA29626A19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49C7-29CE-4B1B-9D24-61DD198195F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BB28-6361-4A7C-A981-44C5CBC1E43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890A-D5DA-4603-9F8B-56D8ECB562E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E994-8244-43E5-A165-ABECC2969F7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D7CC-1AD5-4998-BA3B-D154B8009A6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6E77-9EA1-4416-907F-BDDBB18ABB4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BE7-02A3-4AD8-A2DB-18F8ADE6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DA8-33C3-49DD-95FB-8C2A7CEC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D63-E419-4FBB-8D32-A386656E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BC3-B948-46B2-A1E6-D1961A5F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4995-0AFC-49C0-81B3-C7B1CFD6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594C-ABAD-4F15-9BDF-BC956DB5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06D5-A30F-4FD7-BE1B-AE418D40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D424-E105-48EE-9947-87E9252D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0868-625A-4E3A-881C-5927BF99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0D68-3FFE-44F4-9C3A-D06527D7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1577-8F74-42A4-8B58-AA7AB2C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964-31C3-44F3-92FC-84105CAB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6D5F-9376-450F-9993-DFA31A0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72E6-5E68-4EC6-B2DC-1D1E5223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F785-6B8D-4D35-8364-9CE83FBD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91E0-64DA-4563-8920-D3D52BA1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282C-94F8-4DC5-A98A-E666D779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A83-7195-481E-87A9-7F1362A3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E0B-8BA0-4C6B-9E6B-45EAE396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910-F239-4891-A7FA-8FCA307F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8BC-CE93-4AA7-BA19-401B38E5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6C1-31F6-459D-8D37-D2EAEBC3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E61-80C2-40B3-BBD3-68AB060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C19-ED52-4335-8467-FC9F469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F9BB-4D82-46F3-8C72-729403E67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2E84-BDD5-490C-B0C0-9129FE373ACF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eChalk Session 2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Using Contacts in eChalk Email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ry It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Divide into 3 groups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Each group will choose 1 way to add a group list (add contacts manually, select contacts, or add from address book)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Make a group list of members of this class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3520" y="56707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Share</a:t>
            </a:r>
            <a:br>
              <a:rPr sz="4000"/>
            </a:b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164"/>
                </a:solidFill>
                <a:latin typeface="Arial"/>
              </a:rPr>
              <a:t>How did your group create the group list?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Share</a:t>
            </a:r>
            <a:br>
              <a:rPr sz="4000"/>
            </a:b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the advantages/ disadvantages of each method for adding members to a group lis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038480" y="1981080"/>
          <a:ext cx="4572000" cy="4343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Add contacts manually</a:t>
                      </a: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elect contacts</a:t>
                      </a: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Add from address book</a:t>
                      </a: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Discover Some More Features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an you figure out how to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 Write Mail, open up a blank email and insert an address from your address book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nd a message to a group by typing the group name on the To: line (in Write Mail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pen up an email you’ve received and add the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ender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to your address book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lete a contac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e the alphabet bar to find the individual email addresses and group lists that you’ve added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5486400"/>
            <a:ext cx="670536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learn about using the address book in eChalk email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other new discoveries did you make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upport others in using their eChalk email address books?</a:t>
            </a:r>
            <a:br>
              <a:rPr sz="3200"/>
            </a:b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12164"/>
                </a:solidFill>
                <a:latin typeface="Arial"/>
              </a:rPr>
              <a:t>Today we will learn how to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 the eChalk email address book to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Add conta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Add group lis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end email to our contacts 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Address Boo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Go to ‘school number.nycdoe.org’  Logi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Click the Address Book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Click Add Contact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Picture 11" descr="BD21298_"/>
          <p:cNvPicPr/>
          <p:nvPr/>
        </p:nvPicPr>
        <p:blipFill>
          <a:blip r:embed="rId1"/>
          <a:stretch/>
        </p:blipFill>
        <p:spPr>
          <a:xfrm flipH="1" rot="11974200">
            <a:off x="532800" y="4799880"/>
            <a:ext cx="685800" cy="43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2"/>
          <a:stretch/>
        </p:blipFill>
        <p:spPr>
          <a:xfrm>
            <a:off x="1219320" y="3381480"/>
            <a:ext cx="7619760" cy="240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BD21298_"/>
          <p:cNvPicPr/>
          <p:nvPr/>
        </p:nvPicPr>
        <p:blipFill>
          <a:blip r:embed="rId3"/>
          <a:stretch/>
        </p:blipFill>
        <p:spPr>
          <a:xfrm flipH="1" rot="17423400">
            <a:off x="4418640" y="3172680"/>
            <a:ext cx="6858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 a Contac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s your teacher gives you his/ her contact info, fill it in. 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Don’t forget to save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Picture 13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334120" cy="3776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"/>
          <p:cNvPicPr/>
          <p:nvPr/>
        </p:nvPicPr>
        <p:blipFill>
          <a:blip r:embed="rId2"/>
          <a:stretch/>
        </p:blipFill>
        <p:spPr>
          <a:xfrm>
            <a:off x="3352680" y="6448320"/>
            <a:ext cx="628920" cy="409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BD21298_"/>
          <p:cNvPicPr/>
          <p:nvPr/>
        </p:nvPicPr>
        <p:blipFill>
          <a:blip r:embed="rId3"/>
          <a:stretch/>
        </p:blipFill>
        <p:spPr>
          <a:xfrm flipH="1" rot="19967400">
            <a:off x="3962520" y="6116760"/>
            <a:ext cx="6858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 Anoth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heck the box next to your partner’s name and then Send Mail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 the body of the email, list some people you may want to put in your address book. Send i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714840" cy="2228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33520" y="1981080"/>
            <a:ext cx="82296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Exchange info with a partner and add them as a new contac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0" name="Picture 6" descr="BD21298_"/>
          <p:cNvPicPr/>
          <p:nvPr/>
        </p:nvPicPr>
        <p:blipFill>
          <a:blip r:embed="rId2"/>
          <a:stretch/>
        </p:blipFill>
        <p:spPr>
          <a:xfrm flipH="1" rot="11866200">
            <a:off x="4494960" y="4799880"/>
            <a:ext cx="609840" cy="40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BD21298_"/>
          <p:cNvPicPr/>
          <p:nvPr/>
        </p:nvPicPr>
        <p:blipFill>
          <a:blip r:embed="rId3"/>
          <a:stretch/>
        </p:blipFill>
        <p:spPr>
          <a:xfrm flipH="1" rot="18294000">
            <a:off x="5994720" y="3834360"/>
            <a:ext cx="6098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343400" y="3962520"/>
            <a:ext cx="4114800" cy="23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3048120" y="2590920"/>
            <a:ext cx="5648040" cy="876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 a Group Lis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1: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Click Add Group Li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roup lis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ed for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2: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ive th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roup a nam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d description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lick Nex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6" name="Picture 7" descr="BD21298_"/>
          <p:cNvPicPr/>
          <p:nvPr/>
        </p:nvPicPr>
        <p:blipFill>
          <a:blip r:embed="rId3"/>
          <a:stretch/>
        </p:blipFill>
        <p:spPr>
          <a:xfrm flipH="1" rot="17577000">
            <a:off x="7824600" y="2386440"/>
            <a:ext cx="609480" cy="40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D21298_"/>
          <p:cNvPicPr/>
          <p:nvPr/>
        </p:nvPicPr>
        <p:blipFill>
          <a:blip r:embed="rId4"/>
          <a:stretch/>
        </p:blipFill>
        <p:spPr>
          <a:xfrm flipH="1" rot="9147000">
            <a:off x="3962160" y="403848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BD21298_"/>
          <p:cNvPicPr/>
          <p:nvPr/>
        </p:nvPicPr>
        <p:blipFill>
          <a:blip r:embed="rId5"/>
          <a:stretch/>
        </p:blipFill>
        <p:spPr>
          <a:xfrm flipH="1" rot="9147000">
            <a:off x="3885120" y="457128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BD21298_"/>
          <p:cNvPicPr/>
          <p:nvPr/>
        </p:nvPicPr>
        <p:blipFill>
          <a:blip r:embed="rId6"/>
          <a:stretch/>
        </p:blipFill>
        <p:spPr>
          <a:xfrm flipH="1" rot="9146400">
            <a:off x="4267080" y="6248160"/>
            <a:ext cx="6098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048200" cy="1466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dd a Group Lis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Choose the way to add memb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3" name="Picture 7" descr="BD21298_"/>
          <p:cNvPicPr/>
          <p:nvPr/>
        </p:nvPicPr>
        <p:blipFill>
          <a:blip r:embed="rId2"/>
          <a:stretch/>
        </p:blipFill>
        <p:spPr>
          <a:xfrm flipH="1" rot="10968600">
            <a:off x="2895120" y="3195000"/>
            <a:ext cx="1217880" cy="407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2390760" cy="2054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4"/>
          <a:stretch/>
        </p:blipFill>
        <p:spPr>
          <a:xfrm>
            <a:off x="2857680" y="3857760"/>
            <a:ext cx="2314440" cy="27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5"/>
          <a:stretch/>
        </p:blipFill>
        <p:spPr>
          <a:xfrm>
            <a:off x="5791320" y="4267080"/>
            <a:ext cx="2895480" cy="1882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BD21298_"/>
          <p:cNvPicPr/>
          <p:nvPr/>
        </p:nvPicPr>
        <p:blipFill>
          <a:blip r:embed="rId6"/>
          <a:stretch/>
        </p:blipFill>
        <p:spPr>
          <a:xfrm flipH="1" rot="7690800">
            <a:off x="4940640" y="3707640"/>
            <a:ext cx="930240" cy="40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BD21298_"/>
          <p:cNvPicPr/>
          <p:nvPr/>
        </p:nvPicPr>
        <p:blipFill>
          <a:blip r:embed="rId7"/>
          <a:stretch/>
        </p:blipFill>
        <p:spPr>
          <a:xfrm flipH="1" rot="16489800">
            <a:off x="7164360" y="3947400"/>
            <a:ext cx="838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2-10T17:57:51Z</dcterms:modified>
  <cp:revision>39</cp:revision>
  <dc:subject/>
  <dc:title>Workshop Title</dc:title>
</cp:coreProperties>
</file>